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AA9-020E-4DC4-9B61-12941075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6B3-734A-4566-ABAA-238D1260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5AD-448E-4367-B261-23F2BA4F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B02-AE9D-44A2-B84C-1F2D54F7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694-BF83-4CE7-BD64-50A44313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F33-F2A2-4E06-B46F-297FCA9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0F9-E23F-462C-8852-D73CB08B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C72-5C07-4C56-A52D-4B832EE4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C14-A537-419C-8C37-35D22EF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749-4B91-4872-B5EF-333EE7A1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E7B-45D0-4BC0-9DA7-2A15262B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5AA-A27C-4586-95A1-84C28D2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A1AB-279D-4135-8B93-E7866F09C1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Monitorování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a kontrola projekt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g. Jan F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stopad/prosinec 2005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F1A-7C07-4B52-86E7-D335F18141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ozdíl mezi kontrolami dle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l. 4 a čl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2438280"/>
          <a:ext cx="8763120" cy="3504960"/>
        </p:xfrm>
        <a:graphic>
          <a:graphicData uri="http://schemas.openxmlformats.org/drawingml/2006/table">
            <a:tbl>
              <a:tblPr/>
              <a:tblGrid>
                <a:gridCol w="4421160"/>
                <a:gridCol w="4341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28191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ěření účinnosti zavedených řídicích a kontrolních systémů, ověření výkazů výdajů na různých dotčených úrovních -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ádí  ŘO a jím pověřené subjek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před ukončením každé pomoci - min. 5% celkových způsobilých výdajů - z reprez. vzorku schválený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51920" y="28951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rola jednotlivých operací na místě  (metoda výběru vzork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ádí KP; případně Z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znamy o ověření jednotlivých operací na místě - provedené dílo, výsledky ověření a opatření přijatá v souvislosti s nedost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C03-AB3B-47F0-B983-C0E88F9B51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realizace projektu na místě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3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U je předem o kontrole informov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lenové kontrolní skupiny mají písemné pověření pr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lasti kontrol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ěcn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durální (vedení dokumentace, dodržování podmínek smlouvy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ahová (plnění věcných výstupů projek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anční (čerpání gran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tivit projektu (průběh realizace konkrétní aktivit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ýsledkem je Protokol 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99B-EB00-40D7-A484-97655F2A8E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095-85FE-441E-A981-EE64C708B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dním z principů politiky hospodářské a sociální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zjišťování pokroku v realizaci projektů, shromažďování informací o projek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ovnávání získaných informací s plánem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CE0-0E7E-490F-A975-70F4B488A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tavná činnost probíhající během celého trvání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á se všech úrovní implementační struktury operačního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údaje zjištěné monitorováním se zaznamenávají do MSSF (sumarizace dat z nejnižší po nejvyšší úroveň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í se především prostřednictví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ch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videlných zpráv o průběhu realizace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 na míst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B6A-F3F4-4891-8A6D-55A0D665C9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583236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innosti KU v rámci procesu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žádosti o finanční podporu z OP RLZ zvol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ká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které budou naplňován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třednictvím pravidelnýc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ovacích zprá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formovat KP o průběhu realizace projektu a naplňování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vešker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ovou dokumentac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 kontrolách na místě poskytnout všechny podklady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ající se realizace projektu kontrolním pracovníků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677-BF0A-44AD-BFF1-16829FF177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indiká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rozpočtu program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aktivitám a jejich přímým účastníkům (sledují se počty osob, instituc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ledk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přímým a okamžitým účinkům, které program přinesl (hledisko úspěšnost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dopad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následkům programu (udržitelnost; míra efektů pomoci z dlouhodobého hledisk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A26-B25D-4F2F-9BDE-21A9567A77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skytujících služby nebo podporujících poskytování služeb (1.01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- klientů služeb (1.05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čátečního vzdělávání (1.05.31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v dalším vzdělávání (1.05.32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vědeckých a výzkumných pracovní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.12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rganizací (1.04.00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9FD-517F-4CFE-97C5-C23EE06DED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836640"/>
            <a:ext cx="57610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l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počátečn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1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dalš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0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životního prostřed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49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informačních technologi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08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dukt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2.00 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3D3-8836-4016-B8F5-2924350E78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zprávy vypracovávané 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ují technické a finanční informace o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í umožňovat srovnání výsledků s pláne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sné termíny předkládání zpráv budou specifikovány v Rozhodnutí o poskytnutí dota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h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(k termínu podávání Žádosti o platb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věrečné (po ukončení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EDE3-3CB2-4D19-A4FC-2E873B026A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na mís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ěření projektu v místě jeho realiz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á se o veřejnosprávní kontrolu v souladu se zákonem č. 320/2001 Sb., o finanční kontrole a o kontroly dle čl. 4 a 10 Nařízení Komise (ES) č. 438/200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lší orgány implementační struktury OP RLZ, případně NKÚ, EK, Evropský dvůr auditor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7D5-A7A2-4E6A-9B78-4CA1FA239B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Lenka Suchá</dc:creator>
  <dc:description/>
  <dc:language>en-US</dc:language>
  <cp:lastModifiedBy>prejzovaa</cp:lastModifiedBy>
  <dcterms:modified xsi:type="dcterms:W3CDTF">2005-12-19T13:47:07Z</dcterms:modified>
  <cp:revision>21</cp:revision>
  <dc:subject/>
  <dc:title>Monitorová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47907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